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50AB3-3355-4A7A-A667-E71571A821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mention? Who gets the attribution?  Does it ma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a recent revie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ppropriate use of time?  Cost-benefit ana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4087-D946-457E-B1C0-8062646E2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642A-DBF1-4113-8F4F-10E820C89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BEC1-F8B7-44F7-B608-396D26DEE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FC8C-57B1-447D-89B4-683F5D071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04CE-886B-4F99-AB89-B2A3F894B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5FA2-6C8E-4DDF-9056-3BDBCCC28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95E6-F5FF-42E8-91E4-0CD18F068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21B4-044F-425E-9F05-57BEBFC47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5977-3399-4788-B4E5-2746857C6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2268-6FC7-4C89-9D63-B293E260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F515-4424-4ED1-A47E-F0849F82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A70A-8133-4774-8007-5B3D067EC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B5F65-8746-47BF-91E6-D2A6037C5D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enotype Annotation at TAI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nya Berardi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rrent 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enotypes are associated to organisms (germplasms) and linked to 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ation is mainly done in unstructured full 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lot study of structured annotation comple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O not yet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16876" t="21093" r="23126" b="36720"/>
          <a:stretch/>
        </p:blipFill>
        <p:spPr>
          <a:xfrm>
            <a:off x="609480" y="762120"/>
            <a:ext cx="7848720" cy="44146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19376" t="12500" r="20625" b="5467"/>
          <a:stretch/>
        </p:blipFill>
        <p:spPr>
          <a:xfrm>
            <a:off x="1030320" y="76320"/>
            <a:ext cx="6132600" cy="6705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9377" t="18749" r="15001" b="17188"/>
          <a:stretch/>
        </p:blipFill>
        <p:spPr>
          <a:xfrm>
            <a:off x="0" y="380880"/>
            <a:ext cx="8991720" cy="6093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55" name=""/>
          <p:cNvGrpSpPr/>
          <p:nvPr/>
        </p:nvGrpSpPr>
        <p:grpSpPr>
          <a:xfrm>
            <a:off x="4495680" y="3048120"/>
            <a:ext cx="2894040" cy="703080"/>
            <a:chOff x="4495680" y="3048120"/>
            <a:chExt cx="2894040" cy="703080"/>
          </a:xfrm>
        </p:grpSpPr>
        <p:sp>
          <p:nvSpPr>
            <p:cNvPr id="56" name=""/>
            <p:cNvSpPr/>
            <p:nvPr/>
          </p:nvSpPr>
          <p:spPr>
            <a:xfrm>
              <a:off x="4800600" y="31399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648320" y="32925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648320" y="3444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495680" y="3597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999320" y="3048120"/>
              <a:ext cx="239040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</a:rPr>
                <a:t>papillae:abnorm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</a:rPr>
                <a:t>style:abnorm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</a:rPr>
                <a:t>septum development:incomple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</a:rPr>
                <a:t>leaf:serr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e challenges as other datab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 corpus of liter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number of curators with many diverse responsi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ent ways of paper priorit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pturing phenotypes from the literatur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gle paper, describing single aspect of pheno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gle paper, describing multiple aspects of the organism’s pheno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 papers describing different aspects of the organism’s pheno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 papers, describing the same pheno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oring complex annotations in the datab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ght now, GO as a model for assoca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association = 1 gene product + 1 CV te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 we deal with multiple ontologies in one associ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association = 1 germplasm + 1 anatomy term + 1 PATO term (+ othe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2T20:13:25Z</dcterms:created>
  <dc:creator>tberardi</dc:creator>
  <dc:description/>
  <dc:language>en-US</dc:language>
  <cp:lastModifiedBy>Mark Berardini</cp:lastModifiedBy>
  <dcterms:modified xsi:type="dcterms:W3CDTF">2006-12-01T23:21:29Z</dcterms:modified>
  <cp:revision>33</cp:revision>
  <dc:subject/>
  <dc:title>PATO exercise at TAIR</dc:title>
</cp:coreProperties>
</file>